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A88C-1120-4861-81B3-38B3684C64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844D-5E6E-4A7F-A256-15FA3229B3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96E0-AE12-4306-8970-6BA1A23879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4B89-1CB5-48CF-A33D-3C1D9ABB44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4BDD-D624-44BA-B749-B3F0CD131D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CD8E-B01F-4987-BB23-A0B74A6CE7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3FC8-2BA1-435B-AABA-36EC74142E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C571-0D41-440F-9047-A7BE0A5A41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F3FE-B2B6-467F-83B6-25A0D7783C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FCC0-F8C0-4AEB-BD12-DB95E12877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640F-3D60-4A49-B6E7-A2EA83B53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10F3-2F94-481D-8104-FDFF5005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E4A5-3442-4464-B6BD-2C80B6965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E9C8-4DEA-4A2C-8ED1-D8B0D6926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D790-D4CD-4863-AB1F-485D29F1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3497-0125-4DBF-9DDA-A8304245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CAE1-D9F5-45D7-AB8B-A481691E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7993-0470-44CB-9269-4D17632D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B222-C5D3-442F-96F9-6E59E6A7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4EE9-B015-4EBC-89E2-6BCBC4EB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B777-E29C-4DB2-BEEA-582A0A1D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A4FD-6913-4FF3-B46B-7085DF7B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C467-A785-401F-9C9E-E4A68F87ED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546120" y="698400"/>
            <a:ext cx="719280" cy="16002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3"/>
          <a:stretch/>
        </p:blipFill>
        <p:spPr>
          <a:xfrm>
            <a:off x="7783560" y="700200"/>
            <a:ext cx="718920" cy="16002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4"/>
          <p:cNvSpPr/>
          <p:nvPr/>
        </p:nvSpPr>
        <p:spPr>
          <a:xfrm>
            <a:off x="1352520" y="725400"/>
            <a:ext cx="628668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879480" y="2489040"/>
            <a:ext cx="7385040" cy="36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4"/>
          <a:stretch/>
        </p:blipFill>
        <p:spPr>
          <a:xfrm>
            <a:off x="546120" y="698400"/>
            <a:ext cx="719280" cy="1600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5"/>
          <a:stretch/>
        </p:blipFill>
        <p:spPr>
          <a:xfrm>
            <a:off x="7783560" y="700200"/>
            <a:ext cx="718920" cy="16002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8"/>
          <p:cNvSpPr/>
          <p:nvPr/>
        </p:nvSpPr>
        <p:spPr>
          <a:xfrm>
            <a:off x="1352520" y="725400"/>
            <a:ext cx="628668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879480" y="2489040"/>
            <a:ext cx="7385040" cy="36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pikespeakbsa.org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 to Advancement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04920" y="22856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oger Duncan-Council Chair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erry Pierce-Frontier District Chair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illian Schellhous-Jamboree District Chair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ave Slaughter-Ute District Chair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obin Arends-East High Plains District Chair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lay Lloyd-West High Plains District Chair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0.0.0.0 Special Needs You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pecial Advancement Requirements may be allowed (must be approved by your distric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cout may be registered beyond age of Eligi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 scout’s registration form needs to identify the scout as disabl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ocumentation required to register a scout as “Disabled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ork with Scout early on to prevent Eagle Extens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7.0.0.0 Merit Bad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ims of the Merit Badge Program (7.0.0.1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o learn skill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o develop lifetime hobbi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o inspire a career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ocial skills improv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It gives a Scout the confidence achieved through overcoming obstacl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xamples are set and follow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elds of study and interest are explored beyond the limits of the school classroo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lf-reliance develop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o fills out a blue car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o holds on to the blue card after the initial sign off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rit Badges – 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ules for earning a merit badge (7.0.0.2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y earn any active badge as long he has Unit Leader approv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 time limit on starting and completing badge except the age of 18.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Units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can’t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put a time limit (7.0.3.3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ust have done the work while a registered Boy, Varsity, Venture Sc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 limit on how many times can use same merit badge counsel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es not have to start and finish with the same counsel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cout must present blue card to his merit badge counselor on every vis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rit Badges – 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s to a blue card (7.0.0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714680" y="1447920"/>
            <a:ext cx="55242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rit Badges – 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teps for earning a merit badg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scusses desire to work on a merit badge with Scoutmas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hould consider making the approval/completion signatures more than just an OK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coutmaster approves starting the merit badge by signing the scout’s blue car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cout sets up meetings with the counselor to pass off requirem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ets with counselo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unselor approves all requirements have been mee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unselor takes counselor’s part of blue car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coutmaster signs off that all requirements have been mee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cout keeps his part of blue card and gives the unit’s part of the blue card to the scoutmas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Scout  is recognize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rit Badges – 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roup Instruction (7.0.3.2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 sometimes accepta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hould be limited to those scenarios where benefits are comp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ery scout must complete all requirements individual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nacceptable to award badges on basis of sitting in classrooms watching demonstrations, or remaining silent during activ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rit Badge Counselors (7.0.1.0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ust be YP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ust follow 2 deep leadership guidelines or buddy system(7.0.3.1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 and 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5680" y="712440"/>
            <a:ext cx="6006960" cy="54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Calibri"/>
              </a:rPr>
              <a:t>The Eagle Scout Rank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Reference: sections 8 and 9 in the 2011 </a:t>
            </a:r>
            <a:r>
              <a:rPr b="0" i="1" lang="en-US" sz="4800" spc="-1" strike="noStrike">
                <a:solidFill>
                  <a:srgbClr val="000000"/>
                </a:solidFill>
                <a:latin typeface="Calibri"/>
              </a:rPr>
              <a:t>Guide to Advancement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593892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The Eagle Scout Rank </a:t>
            </a:r>
            <a:br>
              <a:rPr sz="3000"/>
            </a:b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Application Process</a:t>
            </a:r>
            <a:br>
              <a:rPr sz="3000"/>
            </a:b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9.0.1.0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50920" y="1904760"/>
            <a:ext cx="7307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lete all requirements before 1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irth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 active in troop for 6 months (new direction in 2011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Guide to Advanceme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o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w Scout Spir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rn a total of 21 merit ba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le Life Scout, serve 6 months in a position of responsibility listed on application (does not need to be consecu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gle Scout Service Pro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outmaster confer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gle Scout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ard of Review up to 3 months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9840" y="731520"/>
            <a:ext cx="604512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Eagle Scout </a:t>
            </a:r>
            <a:br>
              <a:rPr sz="3000"/>
            </a:b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Service Project</a:t>
            </a:r>
            <a:br>
              <a:rPr sz="3000"/>
            </a:b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9.0.2.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5440" y="2515680"/>
            <a:ext cx="7304040" cy="35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 for the Boy Scouts of 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 a fundraiser; can have fundraiser to earn funds for materials.  Use “Unit Money Earning Application” approved by coun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limit on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neficiary any religious institution, any school, or “community of the world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gin process after attaining Life rank while working on merit ba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bject to BSA policies and procedures.  Refer to current printing of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Guide to Safe Sco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vo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gnificant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52280" y="388620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nopsis Found in section 1.0.2.0 in the Guide to Advancement 2011 (pictu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Takes Effect Jan 1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90400" y="715680"/>
            <a:ext cx="607860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Eagle Scout Service </a:t>
            </a:r>
            <a:br>
              <a:rPr sz="3000"/>
            </a:b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Project Workbook</a:t>
            </a:r>
            <a:br>
              <a:rPr sz="3000"/>
            </a:b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9.0.2.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87120" y="2534760"/>
            <a:ext cx="7242120" cy="36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RENT workbook at Pikes Peak Council office or Fledging class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Preferred) electronic version (verify current date) 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pikespeakbsa.or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 to programs, to boy scouts, to forms/downloads, to Ea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ganize (in a binder), legible, and contain for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proposal approva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All blocks on pages 6 - 10 fille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Fulfills five statements on page 5 under “Preparing the Project Propos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tain the original appearance; no additions or deletions may be made by any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completed pages to be provided for the board of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64840" y="380520"/>
            <a:ext cx="6093000" cy="13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Eagle Scout Service </a:t>
            </a:r>
            <a:br>
              <a:rPr sz="3000"/>
            </a:b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Project Coach</a:t>
            </a:r>
            <a:br>
              <a:rPr sz="3000"/>
            </a:b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9.0.2.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2035080"/>
            <a:ext cx="7315200" cy="36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ed with BSA in any position and have taken Youth Protection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come from the Unit, District or Coun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unit should select person(s) to b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coach.  Send name and contact information to district advancement chairma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cout has the right to choose who his coach my be. This coach needs to be approved by the district or coun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proposal must be completed before start of servic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coach helps scout fill out pages 11 – 16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nal Plan”, in the Eagle Scout Service Project Work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84280" y="738000"/>
            <a:ext cx="6060960" cy="13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Eagle Scout Service </a:t>
            </a:r>
            <a:br>
              <a:rPr sz="3000"/>
            </a:b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Fundraising Application</a:t>
            </a:r>
            <a:br>
              <a:rPr sz="3000"/>
            </a:b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9.0.2.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41400" y="2511360"/>
            <a:ext cx="730872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ge 18 in Eagle Scout Service Project Work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ge 19 for Procedures and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ication not necessary for contributions from candidate, parents or relatives, unit or its chartered organization, parents or members of unit, or benefici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m must be used when requesting donations/discounts from any other sources.  This includes food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trict advancement chairman signs approval before beginning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73120" y="720360"/>
            <a:ext cx="6075360" cy="13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Eagle Scout Application</a:t>
            </a:r>
            <a:br>
              <a:rPr sz="3000"/>
            </a:b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9.0.1.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33480" y="2428920"/>
            <a:ext cx="7316640" cy="37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 current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didate’s curren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erence letters—minimum of 5; form and guidelines information on Council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rit badges and rank advancement dates correct—request personal printout from registr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sition of responsibility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otal of six month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om those listed on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irement 6--statement of ambitions and life purpose, and listing of positions, honors, and aw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gn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01920" y="758520"/>
            <a:ext cx="60768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The Eagle Scout </a:t>
            </a:r>
            <a:br>
              <a:rPr sz="3000"/>
            </a:b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Board of Review</a:t>
            </a:r>
            <a:br>
              <a:rPr sz="3000"/>
            </a:b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 8.0.3.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83880" y="2525760"/>
            <a:ext cx="7296120" cy="36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leted pages 19 – 20 in Eagle Scout Service Project Work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leted Eagle Scout Application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heduled in a timely m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anted when requirements 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ists of 3 – 6 members--need not be BSA regis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unit leaders, assistants, or parents to serve on boards of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ull uniform preferred, but candidate should be neat in appearance and dressed appropria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 a retest or “examina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valuated on impact: extent of benefit to the beneficiary, the leadership provided, and evidence of planning and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animous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didate entitled to only one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03000" y="680760"/>
            <a:ext cx="609588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After Board of Review</a:t>
            </a:r>
            <a:br>
              <a:rPr sz="3000"/>
            </a:b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8.0.1.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5840" y="2545920"/>
            <a:ext cx="7312320" cy="36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returned to council office if board of review appr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cil verifies signatures and sends to national Advancement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sends all credentials back to council by mail. Allow 2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03000" y="711360"/>
            <a:ext cx="609444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Eagle Scout Board of Review Under Disputed Circumstances</a:t>
            </a:r>
            <a:br>
              <a:rPr sz="2700"/>
            </a:b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8.0.3.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23400" y="2414160"/>
            <a:ext cx="7285320" cy="37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key people involved refuse to give approval for project compl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s from candidate’s unit not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nation statement from scout attached to Eagle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d representation from all sources available for board of revie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60160" y="669600"/>
            <a:ext cx="6086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Appealing a Decision</a:t>
            </a:r>
            <a:br>
              <a:rPr sz="3000"/>
            </a:b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8.0.4.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44640" y="2514240"/>
            <a:ext cx="728640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scout is not recommended for Eagle rank at board of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scout or parent may app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appeal a complet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u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oard of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al heard by district, then council, then national—focus only on issues that brought about re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ity vote sufficient and decision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91840" y="712800"/>
            <a:ext cx="6077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Time Extensions</a:t>
            </a:r>
            <a:br>
              <a:rPr sz="3000"/>
            </a:b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9.0.4.0</a:t>
            </a:r>
            <a:br>
              <a:rPr sz="32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33120" y="2494080"/>
            <a:ext cx="732636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rved only for Eagle r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foreseen circumstances now exist that preclude completion before dea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documentation from scout, parents, and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e number of months to complete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orm 11.2.0.0  on page 69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uide to Advan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nted only by national Advancement Team with council’s position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t Responsibiliti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ate chairperson(s) for troop advanc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ponsibilities can be found in 3.0.0.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important now than in years’ p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t to understand procedures and how to get questions answe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.2.3.1 Active Particip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ctive”: when a scout’s level of activity has a positive impact on socie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Three Test metho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scout is register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scout is in good stan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scout meets the unit’s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reasonabl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expect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does impact mea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sitive influence of socie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ctive in church, school,  extra circular activities, et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couts must communicate with unit leadership regarding activ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eaders must stay informed about scout’s activ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4.2.3.4 Positions of Responsibil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2860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ust chose among those listed in Boy Scout Handboo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ay involve any number of posi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oes not have to be consecutiv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eets units expecta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communicate with Scouts the expect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bsence of Unit Expecta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en Responsibilities are not me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st Pract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sponsibility” and “Leadership”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ponsibility is a key foundation for Leadershi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t Best Pract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early defined written Poli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on One Meeting at beginning of term to set expec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quent Position Revie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-Align expectations if not meet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POLICY or Communications means scout adv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Flexible Plans for Part-time scou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.2.3.5 Scout Master Conferenc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ference: a meeting of two or more persons for discussing matters of common concer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ve frequent conferences with Scout, if he is not on the right path, re-direct hi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is not a test &amp; Scout does not need to pass a conferenc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does not have to be the last step before a BOR, it can be done anyti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all requirements are met, a Scout can request a BOR, even if Scoutmaster refuses to recommend o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8.0.0.0 Board of Review Pract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purpose is to determine the Scout’s quality of experience &amp; if he is qualified to adv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n-Eagle BOR’s should last 15-30 minu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agle BOR’s should last 30-45 minutes, after the Board’s 30 minute review of documents &amp; projec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Scout may request a BOR if he feels he has met all the requirem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Scout should wear his best uniform &amp; be neat &amp; clean, but is not required for a B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BOR is not a Re-test or Examination, but a celebration of accomplish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OR date is date rank is earned, not COH d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pealing a Decis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ction 8.0.4.0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the Scout, parent or guardian may appeal the decision to the local counc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ing and Processing an Appe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 step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eals handled at the District, Council and National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eal Board Must Research the C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00:13:22Z</dcterms:created>
  <dc:creator>Windows User</dc:creator>
  <dc:description/>
  <dc:language>en-US</dc:language>
  <cp:lastModifiedBy>David L. Krzemien</cp:lastModifiedBy>
  <cp:lastPrinted>2012-01-10T19:31:43Z</cp:lastPrinted>
  <dcterms:modified xsi:type="dcterms:W3CDTF">2012-05-22T20:08:01Z</dcterms:modified>
  <cp:revision>46</cp:revision>
  <dc:subject/>
  <dc:title>PowerPoint Presentation</dc:title>
</cp:coreProperties>
</file>